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BBA8-0033-4C5C-8333-1BF019DDD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D4A2-626E-4CE5-94B9-C1DC5EC49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9C5DF3-7B85-4F10-A1CA-7DB30F8A6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9E16CD-6377-4B55-B4B4-82D9F791B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3B4857-4776-4B82-A543-D0E171015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505C43-5838-4800-ADDA-9872E08D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78D666-39BB-4349-BCCC-45046E46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D1463E-C1A1-4B1A-B434-20D54473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AE64ED-6C2C-4A29-91E8-1BAEEF4CF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F598D2-E937-4A37-83EA-CE039F338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3768D9-D216-4A1D-8A3D-5FF0D9470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1908-3BD1-4A2D-B750-A4E368678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1429-3FBE-41D1-B26E-22DB32BB2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8556A-DCFA-44BE-8C6B-2C3835507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A9ADA-EA41-43D6-A383-410764067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A05F3-DC78-4658-B6CC-584EA3F38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658C1-9F33-4AC4-B5CB-B23442BE5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7AC39-D42B-4CBE-83A6-CFA98FFE1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B2558-C01D-498E-9D3D-A3FC89738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1C40A-63E7-4167-93A7-EF56D8AE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79BA-3B7E-48D5-BB3A-54E783940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2EC6F-372D-4013-AADB-47CD49A4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C6313-A11B-42EB-8C30-2CB5B766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79545-32A5-4424-9092-C330769B0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AF03D-37EA-4392-B38D-DD32BF634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4656E-BA12-4006-99D4-0FCF67BCB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630A7-821A-4DBE-BAD5-C6A9F828D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722DD-AAE2-4CA9-AA23-9F087D824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D6315-35FB-4AD7-A38F-2E52EF8D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061E8-A365-440A-A1E5-654C33083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0FFB7-2CD3-4DF9-9D07-0B1771284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4D6F-FD03-4CD6-9FDB-93072479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5E037-4C46-4310-BFF5-9FD68AF76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2A3A5-0A67-43DC-A53B-D3B3CCF7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DE538-A2D1-4691-ADD4-FC82B9F7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294BE-20AA-4A15-AA0F-6D0AF2EC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4152D-FDD9-46B9-95B9-4F53E4D32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CAF51-FD5C-4C16-B252-B6E014EF3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3EB15-4AC5-49DB-9402-02FE53673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31E64-8131-409E-8A74-9F1ABDB9B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5525A-BAC9-486D-B742-E23A48497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D7154-C595-4D93-86C3-F324EAC07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89F7-7C6C-4FCD-B650-63E452248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CD6D9-E9EF-46EA-A22A-476A5247E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A6A44-D7D8-4F5D-8CD2-C977CA624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1053E-2C52-4A1A-BED9-FDA47E439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8695E-6057-45E6-908B-A96627E3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4AF06-256B-4B2C-BA04-D5DC389D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A06C0-D3FD-4A25-A68F-464E9F5A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42DA5-5B6B-4C49-BA09-0A52D1E7D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2FD48-4808-4B27-9EFF-5586495F4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4F6E1-8359-49AA-84B1-3A42C7E91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F36DF-D0CF-46D5-B946-345FCE74C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A825-8DD6-4436-886A-2256E00A0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225F0-B6C0-417F-B9E1-4C8D1295D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BCEE2-5AC3-4BB4-AD8C-FCA2DEEF5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AE1F1-5055-4631-9C18-4975F6B34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D0DBB-A786-41D0-83D9-640209E3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0AF82-CE81-4D31-9F85-DB5ADCE9F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3C59C-C7AD-49C6-8755-6B6C5653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9557D-DBC6-49DA-8ED6-57FCD150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C59F8-0850-4908-B02E-6CF370F0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DB44D-215F-4F73-8978-EF583DD41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29A58-A8C2-4CF6-88F1-AB6D00849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5CFF-5727-408A-BCBC-D9B89B4CF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C6560-0BD7-403E-8685-FC46D4229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DA7A91-F5B6-4317-BF9A-566338F9A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61314-6D31-4FE8-BF51-3B8A7A6DB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5ED88-D20D-4D58-9076-ED0060DAA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06505-0E6B-43C7-AE8D-2D4F038EC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58FAB-30A3-4555-8FAD-C488D15EC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608D2-E096-4B82-919F-8625F6751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4608D-6448-4CCE-A535-FB9ACE46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040EA-78B0-403D-8D6E-8AD7FA75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DA69B-D0E0-4F8A-BD12-4C806F1F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1662-6627-4554-8DA5-53A2CE58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AFE5C-D115-4E80-A877-457580DFA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377AD-1803-476C-8ADE-06E884CF6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8E02FE-2C86-465B-92BD-016B10AB0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2328C1-84DE-4570-A976-8097FD3CB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571E8B-9E6E-41F4-8115-4DC457103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5EA33B-ED00-4745-AA08-BF99A593C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31170F-53B1-42AC-9CA0-0AEA97D0A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090CA-D5AB-4D53-8DFC-130F0BBB9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9C80E6-1514-43B2-8859-0FA05334E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D9DA98-4968-4D7D-ABC5-EFB5DDA9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EDE4-E434-46F2-9DF4-2F61CE27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C5C837-A3FD-415F-8EBF-F2463C96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630D2-F1BD-4A5E-82D2-3A54C9D3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0CC5B-3C0F-4E3A-9624-B1102AED3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F616D-B6FF-43EA-84D1-3156BB61D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14C71F-69CA-4A89-88A5-02F4526C8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9B5B1D-13FC-4137-BF64-FD685E277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5BE19E-39A0-44B1-AB37-F15A1FA99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9AF86E-034F-4A65-B706-6D171B191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F8FAF-9541-4A07-B581-018015D9B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D515F-EF1C-4164-8FB4-10B20AF4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3FC6-C4B4-4DD9-B5A0-38F17793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945BCE-4847-4DBD-9B3C-8C7533DF9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492D37-4025-422B-AD4C-2E904027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447635-FE14-4B90-A98F-0955ADA9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082406-556C-40B8-B677-9FD33DB0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10BE97-7EEC-4FD4-B304-63F436CE0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D287A3-1EE2-4A3A-9634-206BFA2E7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44666F-2265-400E-91D7-C93A39E8C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7660B2-2E28-4500-A6D0-985DE4AE7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C1F5BD-571C-4C9F-A931-96EE341AA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84648F-42B4-485C-9599-B1F3D7256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898495-DC0E-40EA-A0FD-4199D9EA97E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12640" y="1047600"/>
            <a:ext cx="8631360" cy="19080"/>
            <a:chOff x="512640" y="1047600"/>
            <a:chExt cx="8631360" cy="1908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12640" y="1047600"/>
              <a:ext cx="863136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12640" y="5340240"/>
            <a:ext cx="8631360" cy="17640"/>
            <a:chOff x="512640" y="5340240"/>
            <a:chExt cx="8631360" cy="1764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12640" y="534024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360B26-6691-4866-8E24-DABD32CE072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12640" y="1047600"/>
            <a:ext cx="8631360" cy="19080"/>
            <a:chOff x="512640" y="1047600"/>
            <a:chExt cx="8631360" cy="1908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12640" y="1047600"/>
              <a:ext cx="863136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F7D7A5-73BF-4D63-BA1F-2941382377C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12640" y="3438360"/>
            <a:ext cx="8631360" cy="17640"/>
            <a:chOff x="512640" y="3438360"/>
            <a:chExt cx="8631360" cy="1764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CD79B8-EFEB-454E-9D5E-BD08A4C87DB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12640" y="6010200"/>
            <a:ext cx="8631360" cy="19080"/>
            <a:chOff x="512640" y="6010200"/>
            <a:chExt cx="8631360" cy="1908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12640" y="6010200"/>
              <a:ext cx="863136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D386D5-1503-44B3-9BB2-B42E49AB47C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62C5A3-1159-4482-8F13-3B09CD124FF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12640" y="5840280"/>
            <a:ext cx="8631360" cy="17640"/>
            <a:chOff x="512640" y="5840280"/>
            <a:chExt cx="8631360" cy="1764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12640" y="584028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AC15DA-E3CE-459C-8A3D-C6DCED4FB4C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77CDC6-B657-434C-8B63-84604052F37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9DA025-296E-4991-BA32-E24DA95D605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bit.ly/Hdeghg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bit.ly/HPeKta" TargetMode="External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mailto:beth.patel@marin.edu" TargetMode="External"/><Relationship Id="rId3" Type="http://schemas.openxmlformats.org/officeDocument/2006/relationships/hyperlink" Target="mailto:cara.statucki@marin.edu" TargetMode="External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1"/>
          <p:cNvSpPr/>
          <p:nvPr/>
        </p:nvSpPr>
        <p:spPr>
          <a:xfrm>
            <a:off x="460440" y="812880"/>
            <a:ext cx="8211960" cy="22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Increasing Student Success by Integrating SLOs and Best Practices</a:t>
            </a:r>
            <a:endParaRPr b="0" lang="en-US" sz="49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0" name="Text Box 4"/>
          <p:cNvSpPr/>
          <p:nvPr/>
        </p:nvSpPr>
        <p:spPr>
          <a:xfrm>
            <a:off x="460440" y="3540240"/>
            <a:ext cx="9018360" cy="24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h Patel  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                         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a Statucki Kreit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SL/Basic Skills English            English Department </a:t>
            </a:r>
            <a:endParaRPr b="0" lang="en-US" sz="27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llege of Marin                         College of Marin </a:t>
            </a:r>
            <a:endParaRPr b="0" lang="en-US" sz="27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Link to our Wiki site:  </a:t>
            </a:r>
            <a:r>
              <a:rPr b="0" lang="en-US" sz="2700" spc="-1" strike="noStrike" u="sng">
                <a:solidFill>
                  <a:srgbClr val="ad1f1f"/>
                </a:solidFill>
                <a:uFillTx/>
                <a:latin typeface="Arial"/>
                <a:hlinkClick r:id="rId1"/>
              </a:rPr>
              <a:t>http://bit.ly/Hdeghg</a:t>
            </a:r>
            <a:endParaRPr b="0" lang="en-US" sz="27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656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341280">
              <a:lnSpc>
                <a:spcPct val="75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ationale 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341280">
              <a:lnSpc>
                <a:spcPct val="75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verview of our college learning outcomes  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341280">
              <a:lnSpc>
                <a:spcPct val="75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ummary of our process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341280">
              <a:lnSpc>
                <a:spcPct val="75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ebsite tour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341280">
              <a:lnSpc>
                <a:spcPct val="75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pplications to other departments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341280">
              <a:lnSpc>
                <a:spcPct val="75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mportance of professional learning communities 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65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3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341280">
              <a:lnSpc>
                <a:spcPct val="7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SL course alignment and Student Learning Outcomes (SLOs)     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341280">
              <a:lnSpc>
                <a:spcPct val="7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LOs and classroom practices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75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341280">
              <a:lnSpc>
                <a:spcPct val="7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llege-wide learning outcomes 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341280">
              <a:lnSpc>
                <a:spcPct val="7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quiry Question: What instructional practices can we use to prepare basic skills students to successfully meet college-wide SLOs?   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656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ritten Competency 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 Critical Thinking and Problem Solving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 Information Literacy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. Visual Communicatio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. Scientific Reasoning 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se SLOs reflect the core competencies required for students who complete the General Education program and serve as the SLOs for our GE program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7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3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7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ubrics:  </a:t>
            </a:r>
            <a:r>
              <a:rPr b="0" lang="en-US" sz="1300" spc="-1" strike="noStrike" u="sng">
                <a:solidFill>
                  <a:srgbClr val="ad1f1f"/>
                </a:solidFill>
                <a:uFillTx/>
                <a:latin typeface="Arial"/>
                <a:hlinkClick r:id="rId2"/>
              </a:rPr>
              <a:t>http://bit.ly/HPeKta</a:t>
            </a:r>
            <a:endParaRPr b="0" lang="en-US" sz="13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le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6560"/>
          </a:xfrm>
          <a:prstGeom prst="rect">
            <a:avLst/>
          </a:prstGeom>
          <a:ln w="0">
            <a:noFill/>
          </a:ln>
        </p:spPr>
      </p:pic>
      <p:sp>
        <p:nvSpPr>
          <p:cNvPr id="408" name="Freeform 4"/>
          <p:cNvSpPr/>
          <p:nvPr/>
        </p:nvSpPr>
        <p:spPr>
          <a:xfrm flipV="1">
            <a:off x="4135320" y="1718640"/>
            <a:ext cx="497160" cy="601560"/>
          </a:xfrm>
          <a:custGeom>
            <a:avLst/>
            <a:gdLst/>
            <a:ahLst/>
            <a:rect l="l" t="t" r="r" b="b"/>
            <a:pathLst>
              <a:path w="22715" h="21600">
                <a:moveTo>
                  <a:pt x="6165" y="21600"/>
                </a:moveTo>
                <a:lnTo>
                  <a:pt x="6165" y="11173"/>
                </a:lnTo>
                <a:cubicBezTo>
                  <a:pt x="6165" y="11173"/>
                  <a:pt x="1031" y="11188"/>
                  <a:pt x="985" y="11173"/>
                </a:cubicBezTo>
                <a:cubicBezTo>
                  <a:pt x="0" y="11173"/>
                  <a:pt x="995" y="10190"/>
                  <a:pt x="995" y="10190"/>
                </a:cubicBezTo>
                <a:lnTo>
                  <a:pt x="11345" y="0"/>
                </a:lnTo>
                <a:cubicBezTo>
                  <a:pt x="11345" y="0"/>
                  <a:pt x="21669" y="10187"/>
                  <a:pt x="21691" y="10187"/>
                </a:cubicBezTo>
                <a:cubicBezTo>
                  <a:pt x="22715" y="11337"/>
                  <a:pt x="21705" y="11173"/>
                  <a:pt x="21705" y="11173"/>
                </a:cubicBezTo>
                <a:lnTo>
                  <a:pt x="16526" y="11173"/>
                </a:lnTo>
                <a:lnTo>
                  <a:pt x="16526" y="21600"/>
                </a:lnTo>
                <a:lnTo>
                  <a:pt x="6165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9" name="Freeform 5"/>
          <p:cNvSpPr/>
          <p:nvPr/>
        </p:nvSpPr>
        <p:spPr>
          <a:xfrm flipV="1">
            <a:off x="4138560" y="3141000"/>
            <a:ext cx="477720" cy="655560"/>
          </a:xfrm>
          <a:custGeom>
            <a:avLst/>
            <a:gdLst/>
            <a:ahLst/>
            <a:rect l="l" t="t" r="r" b="b"/>
            <a:pathLst>
              <a:path w="22715" h="21600">
                <a:moveTo>
                  <a:pt x="6165" y="21600"/>
                </a:moveTo>
                <a:lnTo>
                  <a:pt x="6165" y="11173"/>
                </a:lnTo>
                <a:cubicBezTo>
                  <a:pt x="6165" y="11173"/>
                  <a:pt x="1031" y="11188"/>
                  <a:pt x="985" y="11173"/>
                </a:cubicBezTo>
                <a:cubicBezTo>
                  <a:pt x="0" y="11173"/>
                  <a:pt x="995" y="10190"/>
                  <a:pt x="995" y="10190"/>
                </a:cubicBezTo>
                <a:lnTo>
                  <a:pt x="11345" y="0"/>
                </a:lnTo>
                <a:cubicBezTo>
                  <a:pt x="11345" y="0"/>
                  <a:pt x="21669" y="10187"/>
                  <a:pt x="21691" y="10187"/>
                </a:cubicBezTo>
                <a:cubicBezTo>
                  <a:pt x="22715" y="11337"/>
                  <a:pt x="21705" y="11173"/>
                  <a:pt x="21705" y="11173"/>
                </a:cubicBezTo>
                <a:lnTo>
                  <a:pt x="16526" y="11173"/>
                </a:lnTo>
                <a:lnTo>
                  <a:pt x="16526" y="21600"/>
                </a:lnTo>
                <a:lnTo>
                  <a:pt x="6165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0" name="Text Box 7"/>
          <p:cNvSpPr/>
          <p:nvPr/>
        </p:nvSpPr>
        <p:spPr>
          <a:xfrm>
            <a:off x="316080" y="1306440"/>
            <a:ext cx="891216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rite proposal; solicit materials from teachers in the department </a:t>
            </a:r>
            <a:endParaRPr b="0" lang="en-US" sz="2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1" name="Text Box 8"/>
          <p:cNvSpPr/>
          <p:nvPr/>
        </p:nvSpPr>
        <p:spPr>
          <a:xfrm>
            <a:off x="112680" y="2394000"/>
            <a:ext cx="90313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llect current research, publications about new trends in the field and other schools, and conference materials </a:t>
            </a:r>
            <a:endParaRPr b="0" lang="en-US" sz="2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Text Box 9"/>
          <p:cNvSpPr/>
          <p:nvPr/>
        </p:nvSpPr>
        <p:spPr>
          <a:xfrm>
            <a:off x="-90360" y="3846600"/>
            <a:ext cx="976464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gn the materials collected with the five college learning outcomes</a:t>
            </a:r>
            <a:endParaRPr b="0" lang="en-US" sz="2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3" name="Freeform 10"/>
          <p:cNvSpPr/>
          <p:nvPr/>
        </p:nvSpPr>
        <p:spPr>
          <a:xfrm flipV="1">
            <a:off x="4138560" y="4360320"/>
            <a:ext cx="520920" cy="693720"/>
          </a:xfrm>
          <a:custGeom>
            <a:avLst/>
            <a:gdLst/>
            <a:ahLst/>
            <a:rect l="l" t="t" r="r" b="b"/>
            <a:pathLst>
              <a:path w="22715" h="21600">
                <a:moveTo>
                  <a:pt x="6165" y="21600"/>
                </a:moveTo>
                <a:lnTo>
                  <a:pt x="6165" y="11173"/>
                </a:lnTo>
                <a:cubicBezTo>
                  <a:pt x="6165" y="11173"/>
                  <a:pt x="1031" y="11188"/>
                  <a:pt x="985" y="11173"/>
                </a:cubicBezTo>
                <a:cubicBezTo>
                  <a:pt x="0" y="11173"/>
                  <a:pt x="995" y="10190"/>
                  <a:pt x="995" y="10190"/>
                </a:cubicBezTo>
                <a:lnTo>
                  <a:pt x="11345" y="0"/>
                </a:lnTo>
                <a:cubicBezTo>
                  <a:pt x="11345" y="0"/>
                  <a:pt x="21669" y="10187"/>
                  <a:pt x="21691" y="10187"/>
                </a:cubicBezTo>
                <a:cubicBezTo>
                  <a:pt x="22715" y="11337"/>
                  <a:pt x="21705" y="11173"/>
                  <a:pt x="21705" y="11173"/>
                </a:cubicBezTo>
                <a:lnTo>
                  <a:pt x="16526" y="11173"/>
                </a:lnTo>
                <a:lnTo>
                  <a:pt x="16526" y="21600"/>
                </a:lnTo>
                <a:lnTo>
                  <a:pt x="6165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4" name="Text Box 11"/>
          <p:cNvSpPr/>
          <p:nvPr/>
        </p:nvSpPr>
        <p:spPr>
          <a:xfrm>
            <a:off x="112680" y="4964040"/>
            <a:ext cx="903132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reate a Wiki site using the collected materials</a:t>
            </a:r>
            <a:endParaRPr b="0" lang="en-US" sz="2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5" name="Freeform 12"/>
          <p:cNvSpPr/>
          <p:nvPr/>
        </p:nvSpPr>
        <p:spPr>
          <a:xfrm flipV="1">
            <a:off x="4138560" y="5681520"/>
            <a:ext cx="566640" cy="790560"/>
          </a:xfrm>
          <a:custGeom>
            <a:avLst/>
            <a:gdLst/>
            <a:ahLst/>
            <a:rect l="l" t="t" r="r" b="b"/>
            <a:pathLst>
              <a:path w="22715" h="21600">
                <a:moveTo>
                  <a:pt x="6165" y="21600"/>
                </a:moveTo>
                <a:lnTo>
                  <a:pt x="6165" y="11173"/>
                </a:lnTo>
                <a:cubicBezTo>
                  <a:pt x="6165" y="11173"/>
                  <a:pt x="1031" y="11188"/>
                  <a:pt x="985" y="11173"/>
                </a:cubicBezTo>
                <a:cubicBezTo>
                  <a:pt x="0" y="11173"/>
                  <a:pt x="995" y="10190"/>
                  <a:pt x="995" y="10190"/>
                </a:cubicBezTo>
                <a:lnTo>
                  <a:pt x="11345" y="0"/>
                </a:lnTo>
                <a:cubicBezTo>
                  <a:pt x="11345" y="0"/>
                  <a:pt x="21669" y="10187"/>
                  <a:pt x="21691" y="10187"/>
                </a:cubicBezTo>
                <a:cubicBezTo>
                  <a:pt x="22715" y="11337"/>
                  <a:pt x="21705" y="11173"/>
                  <a:pt x="21705" y="11173"/>
                </a:cubicBezTo>
                <a:lnTo>
                  <a:pt x="16526" y="11173"/>
                </a:lnTo>
                <a:lnTo>
                  <a:pt x="16526" y="21600"/>
                </a:lnTo>
                <a:lnTo>
                  <a:pt x="6165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6" name="Text Box 13"/>
          <p:cNvSpPr/>
          <p:nvPr/>
        </p:nvSpPr>
        <p:spPr>
          <a:xfrm>
            <a:off x="299880" y="6475320"/>
            <a:ext cx="898380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hare resources within the college and beyond </a:t>
            </a:r>
            <a:endParaRPr b="0" lang="en-US" sz="21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Title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656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341280">
              <a:lnSpc>
                <a:spcPct val="95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n your groups, look over the rubrics and talk about 1-2 activities that you use in your classroom that relate to one of the skills on the critical thinking rubric </a:t>
            </a:r>
            <a:endParaRPr b="0" lang="en-US" sz="29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341280">
              <a:lnSpc>
                <a:spcPct val="95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How can this type of work be applied to your own department?  Do you have similar methods for sharing resources?  Are they linked to course, program, or school-wide SLOs?  </a:t>
            </a:r>
            <a:endParaRPr b="0" lang="en-US" sz="2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Title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656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estions?  Contact: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th Patel </a:t>
            </a:r>
            <a:r>
              <a:rPr b="0" lang="en-US" sz="3000" spc="-1" strike="noStrike" u="sng">
                <a:solidFill>
                  <a:srgbClr val="ad1f1f"/>
                </a:solidFill>
                <a:uFillTx/>
                <a:latin typeface="Arial"/>
                <a:hlinkClick r:id="rId2"/>
              </a:rPr>
              <a:t>beth.patel@marin.ed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r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ra Statucki Kreit </a:t>
            </a:r>
            <a:r>
              <a:rPr b="0" lang="en-US" sz="3000" spc="-1" strike="noStrike" u="sng">
                <a:solidFill>
                  <a:srgbClr val="ad1f1f"/>
                </a:solidFill>
                <a:uFillTx/>
                <a:latin typeface="Arial"/>
                <a:hlinkClick r:id="rId3"/>
              </a:rPr>
              <a:t>cara.statucki@marin.ed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was funded by the Basic Skills Initiative at College of Marin   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04:28:30Z</dcterms:created>
  <dc:creator>Bradley Kreit</dc:creator>
  <dc:description/>
  <dc:language>en-US</dc:language>
  <cp:lastModifiedBy>Cara Statucki</cp:lastModifiedBy>
  <dcterms:modified xsi:type="dcterms:W3CDTF">2012-04-12T02:27:46Z</dcterms:modified>
  <cp:revision>1</cp:revision>
  <dc:subject/>
  <dc:title>Slide 1</dc:title>
</cp:coreProperties>
</file>